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wmf" ContentType="image/x-wmf"/>
  <Override PartName="/ppt/media/image8.png" ContentType="image/png"/>
  <Override PartName="/ppt/media/image12.wmf" ContentType="image/x-wmf"/>
  <Override PartName="/ppt/media/image9.png" ContentType="image/png"/>
  <Override PartName="/ppt/media/image13.wmf" ContentType="image/x-wmf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1FF1B-6B6D-4E81-BE94-CB73A31C4CFF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 44% de nuestras exportaciones a EE.UU. son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E.UU. absorbe el 40% de nuestras exportaciones de manufactur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Cabe destacar que la pobreza se redujo del </a:t>
            </a:r>
            <a:r>
              <a:rPr b="0" lang="es-ES" sz="14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s-MX" sz="1400" spc="-1" strike="noStrike">
                <a:solidFill>
                  <a:srgbClr val="000000"/>
                </a:solidFill>
                <a:latin typeface="Verdana"/>
              </a:rPr>
              <a:t>8% de la población en 1992 al 26% en el 2000. El ajuste ante la Crisis del Tequila también fue rápido en términos de pobreza: de 43% en 1995 se pasó a 35% en 1996 (tan solo en un añ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Como se puede ver, a partir de 1994 el desempleo ha presentado una tendencia decrecient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ste se ajustó rápidamente tras la Crisis del Tequila y luego de 1998, llegó a los niveles más bajos desde 1987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El NAFTA también permitió un rápido ajuste de los salarios reales tras dicha cri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000000"/>
                </a:solidFill>
                <a:latin typeface="Verdana"/>
              </a:rPr>
              <a:t>Mayores salarios en el sector exportador y también en el que compite con las importacione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25E78-404D-4882-BEA1-FB4AA06E0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68E62-2C90-4F2E-9C13-E965AFC0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AC12-811B-48CB-962D-75DCF10631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EE5AF-7D39-48F1-AD29-F0B2D4AC60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404F0B-CB6E-444E-9E72-F765AF55D6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60D3E-C97B-48AC-B1F6-14DB476E4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16CE2-9854-4361-9E53-E18F5481C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DC95-03E6-467D-9CF6-DDF7B3132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3B6B2-1493-4726-9BD0-84F125D2C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630B6-2A7A-4999-819C-EA0B5CD9D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0637EB-F3F9-422E-93E8-CB0138A18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B3029-67A6-4D7D-826B-23A2D28092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9B13-71BF-440C-8D5E-0AAF43FBC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25C8D-C668-43D2-909E-7FA216E50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5395-92F7-4304-A755-8965D67EE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93C6F-4824-4E88-BDD8-13AEDF053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40EF6-3150-47ED-AB86-D63F3A372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2E5CD-DBD5-45FD-8019-228B6205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F640E-D339-4C61-A2A2-CC3649E84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8B14-173E-4CBC-BFEA-9EBCB1538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BF16E-4459-4016-852E-B7F86954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D4E-F4B7-4017-A677-CD66C1F90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E074D-89FF-4BA5-9344-6278565E8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3DA95-0D92-4C64-A4F0-CC0934FAE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8614F-D303-4015-9A89-9770BD3C4BAB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10BC0-2A38-4AF5-B7D7-ED4707BDBB83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58" dur="500"/>
                                        <p:tgtEl>
                                          <p:spTgt spid="4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2" dur="500"/>
                                        <p:tgtEl>
                                          <p:spTgt spid="4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1500"/>
                            </p:stCondLst>
                            <p:childTnLst>
                              <p:par>
                                <p:cTn id="46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66" dur="500"/>
                                        <p:tgtEl>
                                          <p:spTgt spid="4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3" dur="500"/>
                                        <p:tgtEl>
                                          <p:spTgt spid="4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500"/>
                            </p:stCondLst>
                            <p:childTnLst>
                              <p:par>
                                <p:cTn id="4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500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 fill="hold"/>
                                        <p:tgtEl>
                                          <p:spTgt spid="4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000"/>
                            </p:stCondLst>
                            <p:childTnLst>
                              <p:par>
                                <p:cTn id="4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/>
                                        <p:tgtEl>
                                          <p:spTgt spid="4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9" dur="500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4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4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500"/>
                            </p:stCondLst>
                            <p:childTnLst>
                              <p:par>
                                <p:cTn id="4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4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4" fill="hold">
                            <p:stCondLst>
                              <p:cond delay="3000"/>
                            </p:stCondLst>
                            <p:childTnLst>
                              <p:par>
                                <p:cTn id="50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4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3500"/>
                            </p:stCondLst>
                            <p:childTnLst>
                              <p:par>
                                <p:cTn id="51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 fill="hold"/>
                                        <p:tgtEl>
                                          <p:spTgt spid="4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RESULTADOS DEL GATT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7" name="" descr=""/>
          <p:cNvPicPr/>
          <p:nvPr/>
        </p:nvPicPr>
        <p:blipFill>
          <a:blip r:embed="rId1"/>
          <a:stretch/>
        </p:blipFill>
        <p:spPr>
          <a:xfrm>
            <a:off x="1835280" y="1666800"/>
            <a:ext cx="5721120" cy="45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0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2" dur="5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PAISES MIEMBROS DE LA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49" name="" descr=""/>
          <p:cNvPicPr/>
          <p:nvPr/>
        </p:nvPicPr>
        <p:blipFill>
          <a:blip r:embed="rId1"/>
          <a:stretch/>
        </p:blipFill>
        <p:spPr>
          <a:xfrm>
            <a:off x="971640" y="1906560"/>
            <a:ext cx="7916760" cy="47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3" dur="indefinite" restart="never" nodeType="tmRoot">
          <p:childTnLst>
            <p:seq>
              <p:cTn id="524" dur="indefinite" nodeType="mainSeq">
                <p:childTnLst>
                  <p:par>
                    <p:cTn id="525" fill="hold">
                      <p:stCondLst>
                        <p:cond delay="0"/>
                      </p:stCondLst>
                      <p:childTnLst>
                        <p:par>
                          <p:cTn id="526" fill="hold">
                            <p:stCondLst>
                              <p:cond delay="0"/>
                            </p:stCondLst>
                            <p:childTnLst>
                              <p:par>
                                <p:cTn id="52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9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500"/>
                            </p:stCondLst>
                            <p:childTnLst>
                              <p:par>
                                <p:cTn id="53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3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4" dur="indefinite" restart="never" nodeType="tmRoot">
          <p:childTnLst>
            <p:seq>
              <p:cTn id="535" dur="indefinite" nodeType="mainSeq">
                <p:childTnLst>
                  <p:par>
                    <p:cTn id="536" fill="hold">
                      <p:stCondLst>
                        <p:cond delay="0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0" dur="500"/>
                                        <p:tgtEl>
                                          <p:spTgt spid="4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4" dur="500"/>
                                        <p:tgtEl>
                                          <p:spTgt spid="4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48" dur="500"/>
                                        <p:tgtEl>
                                          <p:spTgt spid="4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552" dur="500"/>
                                        <p:tgtEl>
                                          <p:spTgt spid="4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3" dur="indefinite" restart="never" nodeType="tmRoot">
          <p:childTnLst>
            <p:seq>
              <p:cTn id="554" dur="indefinite" nodeType="mainSeq">
                <p:childTnLst>
                  <p:par>
                    <p:cTn id="555" fill="hold">
                      <p:stCondLst>
                        <p:cond delay="0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9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0" fill="hold">
                            <p:stCondLst>
                              <p:cond delay="500"/>
                            </p:stCondLst>
                            <p:childTnLst>
                              <p:par>
                                <p:cTn id="56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1450"/>
                            </p:stCondLst>
                            <p:childTnLst>
                              <p:par>
                                <p:cTn id="56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5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2250"/>
                            </p:stCondLst>
                            <p:childTnLst>
                              <p:par>
                                <p:cTn id="57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3" dur="500"/>
                                        <p:tgtEl>
                                          <p:spTgt spid="4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2800"/>
                            </p:stCondLst>
                            <p:childTnLst>
                              <p:par>
                                <p:cTn id="58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4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3300"/>
                            </p:stCondLst>
                            <p:childTnLst>
                              <p:par>
                                <p:cTn id="59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9" dur="500"/>
                                        <p:tgtEl>
                                          <p:spTgt spid="4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850"/>
                            </p:stCondLst>
                            <p:childTnLst>
                              <p:par>
                                <p:cTn id="60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7" dur="500"/>
                                        <p:tgtEl>
                                          <p:spTgt spid="4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456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59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460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0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4" dur="5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500"/>
                            </p:stCondLst>
                            <p:childTnLst>
                              <p:par>
                                <p:cTn id="61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8" dur="5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9" fill="hold">
                            <p:stCondLst>
                              <p:cond delay="1000"/>
                            </p:stCondLst>
                            <p:childTnLst>
                              <p:par>
                                <p:cTn id="6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2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fill="hold">
                            <p:stCondLst>
                              <p:cond delay="1500"/>
                            </p:stCondLst>
                            <p:childTnLst>
                              <p:par>
                                <p:cTn id="62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6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2000"/>
                            </p:stCondLst>
                            <p:childTnLst>
                              <p:par>
                                <p:cTn id="6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0" fill="hold">
                            <p:stCondLst>
                              <p:cond delay="2500"/>
                            </p:stCondLst>
                            <p:childTnLst>
                              <p:par>
                                <p:cTn id="6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fill="hold">
                            <p:stCondLst>
                              <p:cond delay="3000"/>
                            </p:stCondLst>
                            <p:childTnLst>
                              <p:par>
                                <p:cTn id="634" nodeType="after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463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464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470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476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477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6" dur="indefinite" restart="never" nodeType="tmRoot">
          <p:childTnLst>
            <p:seq>
              <p:cTn id="637" dur="indefinite" nodeType="mainSeq">
                <p:childTnLst>
                  <p:par>
                    <p:cTn id="638" fill="hold">
                      <p:stCondLst>
                        <p:cond delay="0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42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3" fill="hold">
                            <p:stCondLst>
                              <p:cond delay="500"/>
                            </p:stCondLst>
                            <p:childTnLst>
                              <p:par>
                                <p:cTn id="644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7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8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1000"/>
                            </p:stCondLst>
                            <p:childTnLst>
                              <p:par>
                                <p:cTn id="65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2000"/>
                            </p:stCondLst>
                            <p:childTnLst>
                              <p:par>
                                <p:cTn id="65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661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4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7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9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00"/>
                                        <p:tgtEl>
                                          <p:spTgt spid="4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5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1" dur="5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4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7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8" fill="hold">
                            <p:stCondLst>
                              <p:cond delay="2500"/>
                            </p:stCondLst>
                            <p:childTnLst>
                              <p:par>
                                <p:cTn id="69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1" dur="5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3400"/>
                            </p:stCondLst>
                            <p:childTnLst>
                              <p:par>
                                <p:cTn id="705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3900"/>
                            </p:stCondLst>
                            <p:childTnLst>
                              <p:par>
                                <p:cTn id="71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5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4900"/>
                            </p:stCondLst>
                            <p:childTnLst>
                              <p:par>
                                <p:cTn id="721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3" dur="20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6900"/>
                            </p:stCondLst>
                            <p:childTnLst>
                              <p:par>
                                <p:cTn id="7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7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0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34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fill="hold">
                            <p:stCondLst>
                              <p:cond delay="500"/>
                            </p:stCondLst>
                            <p:childTnLst>
                              <p:par>
                                <p:cTn id="73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4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2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650"/>
                            </p:stCondLst>
                            <p:childTnLst>
                              <p:par>
                                <p:cTn id="744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500" fill="hold"/>
                                        <p:tgtEl>
                                          <p:spTgt spid="4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5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6" fill="hold">
                            <p:stCondLst>
                              <p:cond delay="2850"/>
                            </p:stCondLst>
                            <p:childTnLst>
                              <p:par>
                                <p:cTn id="75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61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6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8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9" fill="hold">
                            <p:stCondLst>
                              <p:cond delay="4000"/>
                            </p:stCondLst>
                            <p:childTnLst>
                              <p:par>
                                <p:cTn id="770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7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7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9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0" dur="500" fill="hold"/>
                                        <p:tgtEl>
                                          <p:spTgt spid="4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1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2" fill="hold">
                            <p:stCondLst>
                              <p:cond delay="5550"/>
                            </p:stCondLst>
                            <p:childTnLst>
                              <p:par>
                                <p:cTn id="78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85" dur="500"/>
                                        <p:tgtEl>
                                          <p:spTgt spid="4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0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1" fill="hold">
                            <p:stCondLst>
                              <p:cond delay="6050"/>
                            </p:stCondLst>
                            <p:childTnLst>
                              <p:par>
                                <p:cTn id="79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94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7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799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0" fill="hold">
                            <p:stCondLst>
                              <p:cond delay="6550"/>
                            </p:stCondLst>
                            <p:childTnLst>
                              <p:par>
                                <p:cTn id="80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03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0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 con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9" dur="indefinite" restart="never" nodeType="tmRoot">
          <p:childTnLst>
            <p:seq>
              <p:cTn id="810" dur="indefinite" nodeType="mainSeq">
                <p:childTnLst>
                  <p:par>
                    <p:cTn id="811" fill="hold">
                      <p:stCondLst>
                        <p:cond delay="0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1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5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1500"/>
                            </p:stCondLst>
                            <p:childTnLst>
                              <p:par>
                                <p:cTn id="82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6" fill="hold">
                            <p:stCondLst>
                              <p:cond delay="2050"/>
                            </p:stCondLst>
                            <p:childTnLst>
                              <p:par>
                                <p:cTn id="837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5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2550"/>
                            </p:stCondLst>
                            <p:childTnLst>
                              <p:par>
                                <p:cTn id="849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4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5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7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0" fill="hold">
                            <p:stCondLst>
                              <p:cond delay="3200"/>
                            </p:stCondLst>
                            <p:childTnLst>
                              <p:par>
                                <p:cTn id="861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5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fill="hold">
                            <p:stCondLst>
                              <p:cond delay="3750"/>
                            </p:stCondLst>
                            <p:childTnLst>
                              <p:par>
                                <p:cTn id="873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5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6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9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fill="hold">
                            <p:stCondLst>
                              <p:cond delay="4250"/>
                            </p:stCondLst>
                            <p:childTnLst>
                              <p:par>
                                <p:cTn id="885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0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1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fill="hold">
                            <p:stCondLst>
                              <p:cond delay="4900"/>
                            </p:stCondLst>
                            <p:childTnLst>
                              <p:par>
                                <p:cTn id="897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9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6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7" fill="hold">
                            <p:stCondLst>
                              <p:cond delay="5450"/>
                            </p:stCondLst>
                            <p:childTnLst>
                              <p:par>
                                <p:cTn id="90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1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5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6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6050"/>
                            </p:stCondLst>
                            <p:childTnLst>
                              <p:par>
                                <p:cTn id="91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2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22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5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500" fill="hold"/>
                                        <p:tgtEl>
                                          <p:spTgt spid="5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7" fill="hold">
                            <p:stCondLst>
                              <p:cond delay="6700"/>
                            </p:stCondLst>
                            <p:childTnLst>
                              <p:par>
                                <p:cTn id="92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32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5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6" dur="5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fill="hold">
                            <p:stCondLst>
                              <p:cond delay="7200"/>
                            </p:stCondLst>
                            <p:childTnLst>
                              <p:par>
                                <p:cTn id="93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42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7" fill="hold">
                            <p:stCondLst>
                              <p:cond delay="7750"/>
                            </p:stCondLst>
                            <p:childTnLst>
                              <p:par>
                                <p:cTn id="94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52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8250"/>
                            </p:stCondLst>
                            <p:childTnLst>
                              <p:par>
                                <p:cTn id="958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6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12920" y="2421000"/>
            <a:ext cx="831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5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0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9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9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75" dur="1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ortaciones a EE.UU.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27" name=""/>
          <p:cNvSpPr/>
          <p:nvPr/>
        </p:nvSpPr>
        <p:spPr>
          <a:xfrm>
            <a:off x="7024320" y="2690640"/>
            <a:ext cx="35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682400" y="2690640"/>
            <a:ext cx="267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8295480" y="2690640"/>
            <a:ext cx="639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. EE.UU.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8516160" y="2870280"/>
            <a:ext cx="1652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%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805000" y="3036960"/>
            <a:ext cx="2901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900" spc="-1" strike="noStrike">
                <a:solidFill>
                  <a:srgbClr val="ffffff"/>
                </a:solidFill>
                <a:latin typeface="Verdana"/>
              </a:rPr>
              <a:t>Tota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699624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348.0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33080" y="303696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,806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8454240" y="30369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6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5804640" y="3203640"/>
            <a:ext cx="709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radiciona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699624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321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33080" y="32036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,199.9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8454240" y="32036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5788080" y="3370320"/>
            <a:ext cx="4381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7094520" y="33703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93.3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7633080" y="337032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,512.6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8454240" y="33703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2.0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795280" y="353700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722736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.4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731000" y="35370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8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8484480" y="35370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4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5822280" y="3703680"/>
            <a:ext cx="1096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tróleo y derivad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709452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4.2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7731000" y="3703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5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8454240" y="3703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8.8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7800" y="3870360"/>
            <a:ext cx="491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ícol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716040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0.6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7731000" y="38703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13.3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8454240" y="3870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3.1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800680" y="4037040"/>
            <a:ext cx="744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nufactur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699624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,026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7633080" y="4037040"/>
            <a:ext cx="455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,606.3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454240" y="4037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9.3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5798880" y="4203720"/>
            <a:ext cx="7275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gropecuari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709452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8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>
            <a:off x="7731000" y="4203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16.1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8454240" y="4203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2.1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5796000" y="4370400"/>
            <a:ext cx="2887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Textil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709452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15.9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7731000" y="437040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817.2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8454240" y="4370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3.1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3120" y="4537080"/>
            <a:ext cx="5083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esquer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716040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3.6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7731000" y="45370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8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8454240" y="45370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0.9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5792040" y="4703760"/>
            <a:ext cx="44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Quím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6040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2.37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7731000" y="470376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12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8454240" y="47037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3.56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10040" y="4870440"/>
            <a:ext cx="851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etal-mecán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716040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4.7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7797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6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8454240" y="48704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7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792760" y="5035680"/>
            <a:ext cx="10234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Sidero-metalúrg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716040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8.8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7731000" y="503568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90.9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8454240" y="503568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5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816880" y="5202360"/>
            <a:ext cx="10598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inería no metálica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716040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0.2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7797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72.2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8454240" y="520236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55.6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5803920" y="5369040"/>
            <a:ext cx="5630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Artesanía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722736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0.75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7863840" y="536904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.21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454240" y="53690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5817240" y="5535720"/>
            <a:ext cx="10036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Maderas y papele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716040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2.6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7731000" y="5535720"/>
            <a:ext cx="35892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71.09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8454240" y="553572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36.64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5815800" y="5702400"/>
            <a:ext cx="7887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ieles y cueros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7227360" y="5702400"/>
            <a:ext cx="22788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4.13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7797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25.2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8454240" y="570240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16.4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5827680" y="5865840"/>
            <a:ext cx="100944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Varios (inc. Joyería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716040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4.70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7797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95.32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8454240" y="5865840"/>
            <a:ext cx="2934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67.88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5841000" y="6111720"/>
            <a:ext cx="1996920" cy="1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Fuente: SUNAT</a:t>
            </a:r>
            <a:r>
              <a:rPr b="0" lang="es-MX" sz="800" spc="-1" strike="noStrike">
                <a:solidFill>
                  <a:srgbClr val="ffffff"/>
                </a:solidFill>
                <a:latin typeface="Verdana"/>
              </a:rPr>
              <a:t>. </a:t>
            </a:r>
            <a:r>
              <a:rPr b="0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6127200" y="2514600"/>
            <a:ext cx="273636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Participación de EE.UU. en las Exportaciones (2003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7072920" y="2870280"/>
            <a:ext cx="928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900" spc="-1" strike="noStrike">
                <a:solidFill>
                  <a:srgbClr val="ffffff"/>
                </a:solidFill>
                <a:latin typeface="Verdana"/>
              </a:rPr>
              <a:t>(millones de US$)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5730840" y="266220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6858000" y="2838600"/>
            <a:ext cx="2168640" cy="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730840" y="31780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5730840" y="31780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5730840" y="33447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30840" y="33447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5730840" y="401148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5730840" y="401148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730840" y="4178160"/>
            <a:ext cx="329580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730840" y="4178160"/>
            <a:ext cx="3295800" cy="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730840" y="6013440"/>
            <a:ext cx="3295800" cy="25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1240" bIns="-212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3924360" y="2421000"/>
            <a:ext cx="1600200" cy="5508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ffffff"/>
                </a:solidFill>
                <a:latin typeface="Verdana"/>
              </a:rPr>
              <a:t>El 40% del total de nuestras manufacturas van a EE.UU.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8" name="" descr=""/>
          <p:cNvPicPr/>
          <p:nvPr/>
        </p:nvPicPr>
        <p:blipFill>
          <a:blip r:embed="rId1"/>
          <a:stretch/>
        </p:blipFill>
        <p:spPr>
          <a:xfrm>
            <a:off x="755640" y="3191040"/>
            <a:ext cx="4775040" cy="2543040"/>
          </a:xfrm>
          <a:prstGeom prst="rect">
            <a:avLst/>
          </a:prstGeom>
          <a:ln w="0">
            <a:noFill/>
          </a:ln>
        </p:spPr>
      </p:pic>
      <p:sp>
        <p:nvSpPr>
          <p:cNvPr id="619" name=""/>
          <p:cNvSpPr/>
          <p:nvPr/>
        </p:nvSpPr>
        <p:spPr>
          <a:xfrm>
            <a:off x="900000" y="5661000"/>
            <a:ext cx="4033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Verdan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20" name=""/>
          <p:cNvGrpSpPr/>
          <p:nvPr/>
        </p:nvGrpSpPr>
        <p:grpSpPr>
          <a:xfrm>
            <a:off x="1141920" y="1752480"/>
            <a:ext cx="7323840" cy="4809240"/>
            <a:chOff x="1141920" y="1752480"/>
            <a:chExt cx="7323840" cy="4809240"/>
          </a:xfrm>
        </p:grpSpPr>
        <p:sp>
          <p:nvSpPr>
            <p:cNvPr id="621" name=""/>
            <p:cNvSpPr/>
            <p:nvPr/>
          </p:nvSpPr>
          <p:spPr>
            <a:xfrm>
              <a:off x="1509840" y="4028040"/>
              <a:ext cx="365760" cy="11170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3180240" y="3158640"/>
              <a:ext cx="366840" cy="1986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4849920" y="3308400"/>
              <a:ext cx="366840" cy="18367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22840" y="3824640"/>
              <a:ext cx="376560" cy="132048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1875960" y="2728800"/>
              <a:ext cx="366840" cy="24163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3547440" y="2342160"/>
              <a:ext cx="365400" cy="28029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7120" y="2653920"/>
              <a:ext cx="376200" cy="249120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99400" y="2954880"/>
              <a:ext cx="366480" cy="2189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148572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401120" y="514512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1401120" y="459648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401120" y="404928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401120" y="3502440"/>
              <a:ext cx="5364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401120" y="2944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401120" y="2395440"/>
              <a:ext cx="53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401120" y="1846800"/>
              <a:ext cx="5364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1455120" y="5145120"/>
              <a:ext cx="669456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 flipV="1">
              <a:off x="14551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 flipV="1">
              <a:off x="229680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 flipV="1">
              <a:off x="31262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 flipV="1">
              <a:off x="396648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 flipV="1">
              <a:off x="479772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 flipV="1">
              <a:off x="563796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 flipV="1">
              <a:off x="6467400" y="5144760"/>
              <a:ext cx="144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 flipV="1">
              <a:off x="7318440" y="5144760"/>
              <a:ext cx="28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 flipV="1">
              <a:off x="8149680" y="5144760"/>
              <a:ext cx="1080" cy="536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840" bIns="68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149680" y="1846800"/>
              <a:ext cx="1080" cy="32983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4240" y="514512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094240" y="47800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094240" y="44146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094240" y="404928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094240" y="3684240"/>
              <a:ext cx="98280" cy="252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094240" y="330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094240" y="29444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094240" y="2588400"/>
              <a:ext cx="98280" cy="10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8094240" y="2213640"/>
              <a:ext cx="9828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8094240" y="1846800"/>
              <a:ext cx="98280" cy="28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875960" y="2031840"/>
              <a:ext cx="5854320" cy="2705040"/>
            </a:xfrm>
            <a:custGeom>
              <a:avLst/>
              <a:gdLst/>
              <a:ahLst/>
              <a:rect l="l" t="t" r="r" b="b"/>
              <a:pathLst>
                <a:path w="543" h="252">
                  <a:moveTo>
                    <a:pt x="0" y="0"/>
                  </a:moveTo>
                  <a:lnTo>
                    <a:pt x="77" y="237"/>
                  </a:lnTo>
                  <a:lnTo>
                    <a:pt x="155" y="252"/>
                  </a:lnTo>
                  <a:lnTo>
                    <a:pt x="232" y="205"/>
                  </a:lnTo>
                  <a:lnTo>
                    <a:pt x="310" y="197"/>
                  </a:lnTo>
                  <a:lnTo>
                    <a:pt x="387" y="149"/>
                  </a:lnTo>
                  <a:lnTo>
                    <a:pt x="466" y="86"/>
                  </a:lnTo>
                  <a:lnTo>
                    <a:pt x="543" y="32"/>
                  </a:lnTo>
                </a:path>
              </a:pathLst>
            </a:custGeom>
            <a:noFill/>
            <a:ln w="381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1811520" y="1966320"/>
              <a:ext cx="12888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2640960" y="4512600"/>
              <a:ext cx="130320" cy="126720"/>
            </a:xfrm>
            <a:custGeom>
              <a:avLst/>
              <a:gdLst/>
              <a:ahLst/>
              <a:rect l="l" t="t" r="r" b="b"/>
              <a:pathLst>
                <a:path w="73" h="72">
                  <a:moveTo>
                    <a:pt x="36" y="0"/>
                  </a:moveTo>
                  <a:lnTo>
                    <a:pt x="73" y="36"/>
                  </a:lnTo>
                  <a:lnTo>
                    <a:pt x="36" y="72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481200" y="4673160"/>
              <a:ext cx="128880" cy="12960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6"/>
                  </a:lnTo>
                  <a:lnTo>
                    <a:pt x="37" y="73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312440" y="4167000"/>
              <a:ext cx="128880" cy="1299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7" y="0"/>
                  </a:moveTo>
                  <a:lnTo>
                    <a:pt x="73" y="37"/>
                  </a:lnTo>
                  <a:lnTo>
                    <a:pt x="37" y="73"/>
                  </a:lnTo>
                  <a:lnTo>
                    <a:pt x="0" y="37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52680" y="4082760"/>
              <a:ext cx="130320" cy="12852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6"/>
                  </a:lnTo>
                  <a:lnTo>
                    <a:pt x="36" y="73"/>
                  </a:lnTo>
                  <a:lnTo>
                    <a:pt x="0" y="36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983560" y="3566520"/>
              <a:ext cx="129240" cy="128160"/>
            </a:xfrm>
            <a:custGeom>
              <a:avLst/>
              <a:gdLst/>
              <a:ahLst/>
              <a:rect l="l" t="t" r="r" b="b"/>
              <a:pathLst>
                <a:path w="73" h="73">
                  <a:moveTo>
                    <a:pt x="36" y="0"/>
                  </a:moveTo>
                  <a:lnTo>
                    <a:pt x="73" y="37"/>
                  </a:lnTo>
                  <a:lnTo>
                    <a:pt x="36" y="73"/>
                  </a:lnTo>
                  <a:lnTo>
                    <a:pt x="0" y="37"/>
                  </a:lnTo>
                  <a:lnTo>
                    <a:pt x="36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6834600" y="2890800"/>
              <a:ext cx="11844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7664400" y="2311560"/>
              <a:ext cx="119520" cy="126720"/>
            </a:xfrm>
            <a:custGeom>
              <a:avLst/>
              <a:gdLst/>
              <a:ahLst/>
              <a:rect l="l" t="t" r="r" b="b"/>
              <a:pathLst>
                <a:path w="67" h="72">
                  <a:moveTo>
                    <a:pt x="37" y="0"/>
                  </a:moveTo>
                  <a:lnTo>
                    <a:pt x="67" y="36"/>
                  </a:lnTo>
                  <a:lnTo>
                    <a:pt x="37" y="72"/>
                  </a:lnTo>
                  <a:lnTo>
                    <a:pt x="0" y="36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1237680" y="5047560"/>
              <a:ext cx="99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1141920" y="4500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114192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1141920" y="34059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14192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141920" y="22978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14192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6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 rot="16200000">
              <a:off x="1668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 rot="16200000">
              <a:off x="249804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5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 rot="16200000">
              <a:off x="33523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 rot="16200000">
              <a:off x="4183560" y="53100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 rot="16200000">
              <a:off x="5022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 rot="16200000">
              <a:off x="58500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1999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 rot="16200000">
              <a:off x="669060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 rot="16200000">
              <a:off x="7524720" y="5311800"/>
              <a:ext cx="39708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267040" y="50475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267040" y="467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267040" y="43077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8267040" y="39531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8267040" y="35773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2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8267040" y="321336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8267040" y="28465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8267040" y="24829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267040" y="211572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6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267040" y="1752480"/>
              <a:ext cx="1987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2997360" y="5929200"/>
              <a:ext cx="366840" cy="106920"/>
            </a:xfrm>
            <a:prstGeom prst="rect">
              <a:avLst/>
            </a:prstGeom>
            <a:solidFill>
              <a:srgbClr val="aeb9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3387600" y="5865120"/>
              <a:ext cx="318132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Línea 1 - SEDESO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997360" y="6166440"/>
              <a:ext cx="366840" cy="11736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3391920" y="6102360"/>
              <a:ext cx="215856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Tasa de pobreza - CEP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2997360" y="6444720"/>
              <a:ext cx="354960" cy="25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26240" y="6401880"/>
              <a:ext cx="96840" cy="9612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0" y="0"/>
                  </a:moveTo>
                  <a:lnTo>
                    <a:pt x="54" y="25"/>
                  </a:lnTo>
                  <a:lnTo>
                    <a:pt x="30" y="55"/>
                  </a:lnTo>
                  <a:lnTo>
                    <a:pt x="0" y="25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ff99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384360" y="6348240"/>
              <a:ext cx="33642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Salarios reales en dólares (eje derecho)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99" name=""/>
          <p:cNvSpPr/>
          <p:nvPr/>
        </p:nvSpPr>
        <p:spPr>
          <a:xfrm>
            <a:off x="2133720" y="1460520"/>
            <a:ext cx="5181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Verdana"/>
              </a:rPr>
              <a:t>Tasa de pobreza y salarios reales en México 1994 - 2001</a:t>
            </a: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Verdana"/>
              </a:rPr>
              <a:t>(en porcentajes y dólare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1327320" y="623880"/>
            <a:ext cx="697032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xperiencia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2" name=""/>
          <p:cNvSpPr/>
          <p:nvPr/>
        </p:nvSpPr>
        <p:spPr>
          <a:xfrm>
            <a:off x="2220840" y="3103560"/>
            <a:ext cx="1800" cy="17366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2163600" y="484020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2163600" y="4597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2163600" y="433692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2163600" y="4094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2163600" y="385128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2163600" y="3608280"/>
            <a:ext cx="11304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2163600" y="3346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2163600" y="3103560"/>
            <a:ext cx="113040" cy="14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2220840" y="4840200"/>
            <a:ext cx="5992920" cy="180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 flipV="1">
            <a:off x="222084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9703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 flipV="1">
            <a:off x="37195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446724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 flipV="1">
            <a:off x="521640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 flipV="1">
            <a:off x="596592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6715080" y="4784400"/>
            <a:ext cx="180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 flipV="1">
            <a:off x="746460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 flipV="1">
            <a:off x="8213760" y="4784400"/>
            <a:ext cx="1440" cy="111240"/>
          </a:xfrm>
          <a:prstGeom prst="line">
            <a:avLst/>
          </a:prstGeom>
          <a:ln w="0">
            <a:solidFill>
              <a:srgbClr val="fffff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>
            <a:off x="2595600" y="3309840"/>
            <a:ext cx="5243400" cy="989280"/>
          </a:xfrm>
          <a:custGeom>
            <a:avLst/>
            <a:gdLst/>
            <a:ahLst/>
            <a:rect l="l" t="t" r="r" b="b"/>
            <a:pathLst>
              <a:path w="280" h="53">
                <a:moveTo>
                  <a:pt x="0" y="0"/>
                </a:moveTo>
                <a:lnTo>
                  <a:pt x="40" y="9"/>
                </a:lnTo>
                <a:lnTo>
                  <a:pt x="80" y="33"/>
                </a:lnTo>
                <a:lnTo>
                  <a:pt x="120" y="39"/>
                </a:lnTo>
                <a:lnTo>
                  <a:pt x="160" y="49"/>
                </a:lnTo>
                <a:lnTo>
                  <a:pt x="200" y="53"/>
                </a:lnTo>
                <a:lnTo>
                  <a:pt x="240" y="50"/>
                </a:lnTo>
                <a:lnTo>
                  <a:pt x="280" y="46"/>
                </a:lnTo>
              </a:path>
            </a:pathLst>
          </a:custGeom>
          <a:noFill/>
          <a:ln w="38160">
            <a:solidFill>
              <a:srgbClr val="ffcc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2538360" y="325296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3287880" y="342108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4037040" y="386856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786200" y="3981600"/>
            <a:ext cx="11268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5535720" y="4168800"/>
            <a:ext cx="11268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>
            <a:off x="6284880" y="4243320"/>
            <a:ext cx="111240" cy="1112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040" bIns="3204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7032600" y="4186080"/>
            <a:ext cx="112680" cy="11304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7781760" y="4111560"/>
            <a:ext cx="113040" cy="112680"/>
          </a:xfrm>
          <a:prstGeom prst="ellipse">
            <a:avLst/>
          </a:prstGeom>
          <a:solidFill>
            <a:srgbClr val="ffcc00"/>
          </a:solidFill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>
            <a:off x="4147560" y="2617920"/>
            <a:ext cx="2195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ffff"/>
                </a:solidFill>
                <a:latin typeface="Verdana"/>
              </a:rPr>
              <a:t>Tasa de Desempleo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7808040" y="36640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7152480" y="373860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6515640" y="38131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5766480" y="379404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2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110920" y="360828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361400" y="35337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3.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2713680" y="289872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6.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3688560" y="3197160"/>
            <a:ext cx="473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Verdana"/>
              </a:rPr>
              <a:t>5.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1824120" y="4710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0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1824120" y="4467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1824120" y="420516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>
            <a:off x="1824120" y="3962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3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1824120" y="3719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4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1824120" y="347652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5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824120" y="3216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6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1824120" y="2973240"/>
            <a:ext cx="2858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7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24570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320652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3954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7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470340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54525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1999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>
            <a:off x="620208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695124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7700760" y="4989600"/>
            <a:ext cx="4640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Verdana"/>
              </a:rPr>
              <a:t>20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1631880" y="5470560"/>
            <a:ext cx="66740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Fuente: Instituto Nacional de Estadística, Geografía e Informática de México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México: impactos del NAFT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757" name="" descr=""/>
          <p:cNvPicPr/>
          <p:nvPr/>
        </p:nvPicPr>
        <p:blipFill>
          <a:blip r:embed="rId1"/>
          <a:stretch/>
        </p:blipFill>
        <p:spPr>
          <a:xfrm>
            <a:off x="838080" y="1828800"/>
            <a:ext cx="7391520" cy="4452840"/>
          </a:xfrm>
          <a:prstGeom prst="rect">
            <a:avLst/>
          </a:prstGeom>
          <a:ln w="0">
            <a:noFill/>
          </a:ln>
        </p:spPr>
      </p:pic>
      <p:sp>
        <p:nvSpPr>
          <p:cNvPr id="758" name=""/>
          <p:cNvSpPr/>
          <p:nvPr/>
        </p:nvSpPr>
        <p:spPr>
          <a:xfrm>
            <a:off x="1905120" y="6400800"/>
            <a:ext cx="72388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ffffff"/>
                </a:solidFill>
                <a:latin typeface="Verdana"/>
              </a:rPr>
              <a:t>Fuente: U.S. Census Bureau, Foreign Trade Division; Statistics Canada; </a:t>
            </a:r>
            <a:r>
              <a:rPr b="1" lang="es-PE" sz="900" spc="-1" strike="noStrike">
                <a:solidFill>
                  <a:srgbClr val="ffffff"/>
                </a:solidFill>
                <a:latin typeface="Verdana"/>
              </a:rPr>
              <a:t>Secretaría de Economía de México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6" dur="indefinite" restart="never" nodeType="tmRoot">
          <p:childTnLst>
            <p:seq>
              <p:cTn id="977" dur="indefinite" nodeType="mainSeq">
                <p:childTnLst>
                  <p:par>
                    <p:cTn id="978" fill="hold">
                      <p:stCondLst>
                        <p:cond delay="0"/>
                      </p:stCondLst>
                      <p:childTnLst>
                        <p:par>
                          <p:cTn id="979" fill="hold">
                            <p:stCondLst>
                              <p:cond delay="0"/>
                            </p:stCondLst>
                            <p:childTnLst>
                              <p:par>
                                <p:cTn id="98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82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500"/>
                            </p:stCondLst>
                            <p:childTnLst>
                              <p:par>
                                <p:cTn id="984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86" dur="5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fill="hold">
                            <p:stCondLst>
                              <p:cond delay="1000"/>
                            </p:stCondLst>
                            <p:childTnLst>
                              <p:par>
                                <p:cTn id="98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0" dur="5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9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4" dur="5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9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98" dur="5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0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02" dur="5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Á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3" dur="indefinite" restart="never" nodeType="tmRoot">
          <p:childTnLst>
            <p:seq>
              <p:cTn id="1004" dur="indefinite" nodeType="mainSeq">
                <p:childTnLst>
                  <p:par>
                    <p:cTn id="1005" fill="hold">
                      <p:stCondLst>
                        <p:cond delay="0"/>
                      </p:stCondLst>
                      <p:childTnLst>
                        <p:par>
                          <p:cTn id="1006" fill="hold">
                            <p:stCondLst>
                              <p:cond delay="0"/>
                            </p:stCondLst>
                            <p:childTnLst>
                              <p:par>
                                <p:cTn id="100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09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7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7" dur="500"/>
                                        <p:tgtEl>
                                          <p:spTgt spid="7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8" fill="hold">
                            <p:stCondLst>
                              <p:cond delay="1500"/>
                            </p:stCondLst>
                            <p:childTnLst>
                              <p:par>
                                <p:cTn id="101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1" dur="500"/>
                                        <p:tgtEl>
                                          <p:spTgt spid="7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2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3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5" dur="500"/>
                                        <p:tgtEl>
                                          <p:spTgt spid="7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6" fill="hold">
                            <p:stCondLst>
                              <p:cond delay="2500"/>
                            </p:stCondLst>
                            <p:childTnLst>
                              <p:par>
                                <p:cTn id="1027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9" dur="500"/>
                                        <p:tgtEl>
                                          <p:spTgt spid="76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3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3" dur="500"/>
                                        <p:tgtEl>
                                          <p:spTgt spid="76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3500"/>
                            </p:stCondLst>
                            <p:childTnLst>
                              <p:par>
                                <p:cTn id="103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7" dur="500"/>
                                        <p:tgtEl>
                                          <p:spTgt spid="76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8" dur="indefinite" restart="never" nodeType="tmRoot">
          <p:childTnLst>
            <p:seq>
              <p:cTn id="1039" dur="indefinite" nodeType="mainSeq">
                <p:childTnLst>
                  <p:par>
                    <p:cTn id="1040" fill="hold">
                      <p:stCondLst>
                        <p:cond delay="0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44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5" fill="hold">
                            <p:stCondLst>
                              <p:cond delay="500"/>
                            </p:stCondLst>
                            <p:childTnLst>
                              <p:par>
                                <p:cTn id="104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7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7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7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9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0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2" dur="500" fill="hold"/>
                                        <p:tgtEl>
                                          <p:spTgt spid="7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0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79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0" fill="hold">
                            <p:stCondLst>
                              <p:cond delay="500"/>
                            </p:stCondLst>
                            <p:childTnLst>
                              <p:par>
                                <p:cTn id="108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3" dur="500"/>
                                        <p:tgtEl>
                                          <p:spTgt spid="7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4" fill="hold">
                            <p:stCondLst>
                              <p:cond delay="1000"/>
                            </p:stCondLst>
                            <p:childTnLst>
                              <p:par>
                                <p:cTn id="108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87" dur="500"/>
                                        <p:tgtEl>
                                          <p:spTgt spid="7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0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94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fill="hold">
                            <p:stCondLst>
                              <p:cond delay="500"/>
                            </p:stCondLst>
                            <p:childTnLst>
                              <p:par>
                                <p:cTn id="109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7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3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7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8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7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0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7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7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0" fill="hold">
                            <p:stCondLst>
                              <p:cond delay="3000"/>
                            </p:stCondLst>
                            <p:childTnLst>
                              <p:par>
                                <p:cTn id="11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4" dur="500" fill="hold"/>
                                        <p:tgtEl>
                                          <p:spTgt spid="7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5" fill="hold">
                            <p:stCondLst>
                              <p:cond delay="3500"/>
                            </p:stCondLst>
                            <p:childTnLst>
                              <p:par>
                                <p:cTn id="11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7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0" dur="indefinite" restart="never" nodeType="tmRoot">
          <p:childTnLst>
            <p:seq>
              <p:cTn id="1131" dur="indefinite" nodeType="mainSeq">
                <p:childTnLst>
                  <p:par>
                    <p:cTn id="1132" fill="hold">
                      <p:stCondLst>
                        <p:cond delay="0"/>
                      </p:stCondLst>
                      <p:childTnLst>
                        <p:par>
                          <p:cTn id="1133" fill="hold">
                            <p:stCondLst>
                              <p:cond delay="0"/>
                            </p:stCondLst>
                            <p:childTnLst>
                              <p:par>
                                <p:cTn id="113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36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7" fill="hold">
                            <p:stCondLst>
                              <p:cond delay="500"/>
                            </p:stCondLst>
                            <p:childTnLst>
                              <p:par>
                                <p:cTn id="1138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0" dur="500"/>
                                        <p:tgtEl>
                                          <p:spTgt spid="7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4" dur="500"/>
                                        <p:tgtEl>
                                          <p:spTgt spid="7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5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6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48" dur="500"/>
                                        <p:tgtEl>
                                          <p:spTgt spid="7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50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152" dur="500"/>
                                        <p:tgtEl>
                                          <p:spTgt spid="7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3" dur="indefinite" restart="never" nodeType="tmRoot">
          <p:childTnLst>
            <p:seq>
              <p:cTn id="1154" dur="indefinite" nodeType="mainSeq">
                <p:childTnLst>
                  <p:par>
                    <p:cTn id="1155" fill="hold">
                      <p:stCondLst>
                        <p:cond delay="0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59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16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3" dur="500"/>
                                        <p:tgtEl>
                                          <p:spTgt spid="7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65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7" dur="500"/>
                                        <p:tgtEl>
                                          <p:spTgt spid="7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4724280" y="1779480"/>
          <a:ext cx="4135680" cy="26082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24280" y="1779480"/>
                    <a:ext cx="4135680" cy="260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6781680" y="4365720"/>
            <a:ext cx="2590920" cy="5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Penn World Table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Método: Precios constantes en %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987840" y="6338880"/>
            <a:ext cx="22471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800" spc="-1" strike="noStrike">
                <a:solidFill>
                  <a:srgbClr val="ffffff"/>
                </a:solidFill>
                <a:latin typeface="Verdana"/>
              </a:rPr>
              <a:t>Fuente: CEPAL. Elaboración: COMEXPERU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3"/>
          <a:stretch/>
        </p:blipFill>
        <p:spPr>
          <a:xfrm>
            <a:off x="762120" y="3649680"/>
            <a:ext cx="4647960" cy="275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jore</cp:lastModifiedBy>
  <dcterms:modified xsi:type="dcterms:W3CDTF">2004-08-13T15:23:01Z</dcterms:modified>
  <cp:revision>657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920418868</vt:r8>
  </property>
  <property fmtid="{D5CDD505-2E9C-101B-9397-08002B2CF9AE}" pid="3" name="_AuthorEmail">
    <vt:lpwstr>jore@comexperu.org.pe</vt:lpwstr>
  </property>
  <property fmtid="{D5CDD505-2E9C-101B-9397-08002B2CF9AE}" pid="4" name="_AuthorEmailDisplayName">
    <vt:lpwstr>Juan Carlos Ore</vt:lpwstr>
  </property>
  <property fmtid="{D5CDD505-2E9C-101B-9397-08002B2CF9AE}" pid="5" name="_EmailSubject">
    <vt:lpwstr>web</vt:lpwstr>
  </property>
  <property fmtid="{D5CDD505-2E9C-101B-9397-08002B2CF9AE}" pid="6" name="_PreviousAdHocReviewCycleID">
    <vt:r8>-768413957</vt:r8>
  </property>
</Properties>
</file>